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DE42-5A03-4E57-8A9C-142610509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F1FE-75B9-4658-8014-1217C3FD6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E4A0-4DE7-4FC4-BC5F-1E0A5FC22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84D8-E63C-461F-B249-6D80351A3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832AB-CE0F-4313-8895-437E6F29D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CD82A-8173-4A37-A3D8-A5C8133A5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62A49-0C2C-4BC6-B181-977727836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9C3BD-30A6-4445-BB80-66665D2C7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D3B66-A18C-4833-A847-E5F4EBD1A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E6A88-053E-4473-925A-13EEA85DC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8162B-468C-4AA0-89B1-1645C317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1D3D-0245-40DD-BAFD-80689DEA3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E3F12-FDC8-45FC-B5DE-35C190A6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0D52E-76E6-4E0A-96AE-04FF100F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8B0D8-83F3-4410-8929-E4F3047F8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FB440-4166-43D2-B703-53309DCFF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3F9FB-1F9E-474D-9A23-12C1853EF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E7CC-6907-4F74-B79E-16D759D13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75A7-DF4B-44E2-B16E-F8B947154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D100-D86C-44C9-832E-11E2E67A9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3B57-F983-4355-ADDA-5CAF8CA83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CA4E-6908-4E8C-95D8-6FD945AB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B176-A3BD-4925-A53D-0C13B5AC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6543-B022-4838-A8F6-03DC494F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94148-DDD0-4389-9286-6775F98C7B89}" type="slidenum">
              <a:rPr b="0" lang="ro-RO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D9913-0221-4771-BADA-BDD10D0F01BD}" type="slidenum">
              <a:rPr b="0" lang="ro-RO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841320" y="2708280"/>
            <a:ext cx="80517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</a:rPr>
              <a:t>Examene</a:t>
            </a:r>
            <a:r>
              <a:rPr b="1" lang="ro-RO" sz="3200" spc="-1" strike="noStrike">
                <a:solidFill>
                  <a:srgbClr val="ffff99"/>
                </a:solidFill>
                <a:latin typeface="Tahoma"/>
              </a:rPr>
              <a:t> și concursuri n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</a:rPr>
              <a:t>a</a:t>
            </a:r>
            <a:r>
              <a:rPr b="1" lang="ro-RO" sz="3200" spc="-1" strike="noStrike">
                <a:solidFill>
                  <a:srgbClr val="ffff99"/>
                </a:solidFill>
                <a:latin typeface="Tahoma"/>
              </a:rPr>
              <a:t>ționale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</a:rPr>
              <a:t> 20</a:t>
            </a:r>
            <a:r>
              <a:rPr b="1" lang="ro-RO" sz="32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99"/>
                </a:solidFill>
                <a:latin typeface="Tahoma"/>
              </a:rPr>
              <a:t>Discipline socio-uma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1476360" y="4149720"/>
            <a:ext cx="7272360" cy="10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 Unicode MS"/>
              </a:rPr>
              <a:t>sesiunea iunie </a:t>
            </a:r>
            <a:r>
              <a:rPr b="1" lang="ro-RO" sz="3200" spc="-1" strike="noStrike">
                <a:solidFill>
                  <a:srgbClr val="ffffff"/>
                </a:solidFill>
                <a:latin typeface="Arial Unicode MS"/>
              </a:rPr>
              <a:t>- iul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1042920" y="189000"/>
            <a:ext cx="7850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ROM</a:t>
            </a:r>
            <a:r>
              <a:rPr b="0" lang="ro-RO" sz="1600" spc="-1" strike="noStrike">
                <a:solidFill>
                  <a:srgbClr val="ffffff"/>
                </a:solidFill>
                <a:latin typeface="Arial Black"/>
              </a:rPr>
              <a:t>ÂNI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Arial Black"/>
              </a:rPr>
              <a:t>MINISTERUL </a:t>
            </a:r>
            <a:r>
              <a:rPr b="1" lang="en-US" sz="1600" spc="-1" strike="noStrike">
                <a:solidFill>
                  <a:srgbClr val="ffffff"/>
                </a:solidFill>
                <a:latin typeface="Arial Black"/>
              </a:rPr>
              <a:t> EDUCA</a:t>
            </a:r>
            <a:r>
              <a:rPr b="1" lang="ro-RO" sz="1600" spc="-1" strike="noStrike">
                <a:solidFill>
                  <a:srgbClr val="ffffff"/>
                </a:solidFill>
                <a:latin typeface="Arial Black"/>
              </a:rPr>
              <a:t>ȚIEI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Arial Black"/>
              </a:rPr>
              <a:t>CENTRUL NAȚIONAL DE </a:t>
            </a: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POLITICI </a:t>
            </a:r>
            <a:r>
              <a:rPr b="0" lang="ro-RO" sz="1600" spc="-1" strike="noStrike">
                <a:solidFill>
                  <a:srgbClr val="ffffff"/>
                </a:solidFill>
                <a:latin typeface="Arial Black"/>
              </a:rPr>
              <a:t>ŞI </a:t>
            </a: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EVALUARE </a:t>
            </a:r>
            <a:r>
              <a:rPr b="0" lang="ro-RO" sz="1600" spc="-1" strike="noStrike">
                <a:solidFill>
                  <a:srgbClr val="ffffff"/>
                </a:solidFill>
                <a:latin typeface="Arial Black"/>
              </a:rPr>
              <a:t>ÎN EDUCAȚI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15"/>
          <p:cNvSpPr/>
          <p:nvPr/>
        </p:nvSpPr>
        <p:spPr>
          <a:xfrm rot="16200000">
            <a:off x="-1402560" y="3938400"/>
            <a:ext cx="400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www.rocnee</a:t>
            </a:r>
            <a:r>
              <a:rPr b="1" lang="ro-RO" sz="2000" spc="-1" strike="noStrike">
                <a:solidFill>
                  <a:srgbClr val="ffffff"/>
                </a:solidFill>
                <a:latin typeface="Tahoma"/>
              </a:rPr>
              <a:t>.e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3"/>
          <p:cNvSpPr/>
          <p:nvPr/>
        </p:nvSpPr>
        <p:spPr>
          <a:xfrm>
            <a:off x="558720" y="476280"/>
            <a:ext cx="8532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Distribu</a:t>
            </a: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ția notelor candidaților la disciplin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Economie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Bacalaureat 20</a:t>
            </a: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Table 4" descr=""/>
          <p:cNvPicPr/>
          <p:nvPr/>
        </p:nvPicPr>
        <p:blipFill>
          <a:blip r:embed="rId1"/>
          <a:stretch/>
        </p:blipFill>
        <p:spPr>
          <a:xfrm>
            <a:off x="-49320" y="2120760"/>
            <a:ext cx="9156960" cy="26035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558720" y="476280"/>
            <a:ext cx="8532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Distribu</a:t>
            </a: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ția notelor candidaților la disciplin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Filosofie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Bacalaureat 20</a:t>
            </a: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Table 1" descr=""/>
          <p:cNvPicPr/>
          <p:nvPr/>
        </p:nvPicPr>
        <p:blipFill>
          <a:blip r:embed="rId1"/>
          <a:stretch/>
        </p:blipFill>
        <p:spPr>
          <a:xfrm>
            <a:off x="-12600" y="1908000"/>
            <a:ext cx="8991360" cy="33339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3"/>
          <p:cNvSpPr/>
          <p:nvPr/>
        </p:nvSpPr>
        <p:spPr>
          <a:xfrm>
            <a:off x="611280" y="549360"/>
            <a:ext cx="853272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Distribu</a:t>
            </a: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ția notelor candidaților la disciplin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Sociologie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– Bacalaureat </a:t>
            </a: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202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Table 1" descr=""/>
          <p:cNvPicPr/>
          <p:nvPr/>
        </p:nvPicPr>
        <p:blipFill>
          <a:blip r:embed="rId1"/>
          <a:stretch/>
        </p:blipFill>
        <p:spPr>
          <a:xfrm>
            <a:off x="-12600" y="1835280"/>
            <a:ext cx="8991360" cy="38764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1006560" y="333360"/>
            <a:ext cx="76690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Distribu</a:t>
            </a: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ția notelor candidaților la disciplin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Psihologie 202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Table 1" descr=""/>
          <p:cNvPicPr/>
          <p:nvPr/>
        </p:nvPicPr>
        <p:blipFill>
          <a:blip r:embed="rId1"/>
          <a:stretch/>
        </p:blipFill>
        <p:spPr>
          <a:xfrm>
            <a:off x="23760" y="1835280"/>
            <a:ext cx="8955000" cy="40957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3"/>
          <p:cNvSpPr/>
          <p:nvPr/>
        </p:nvSpPr>
        <p:spPr>
          <a:xfrm>
            <a:off x="684360" y="620640"/>
            <a:ext cx="8135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Distribu</a:t>
            </a: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ția notelor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andida</a:t>
            </a: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ților la disciplin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Logica, argumentare si comunicare-202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Table 1" descr=""/>
          <p:cNvPicPr/>
          <p:nvPr/>
        </p:nvPicPr>
        <p:blipFill>
          <a:blip r:embed="rId1"/>
          <a:stretch/>
        </p:blipFill>
        <p:spPr>
          <a:xfrm>
            <a:off x="96840" y="1835280"/>
            <a:ext cx="8881920" cy="36637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12:16:38Z</dcterms:created>
  <dc:creator>M</dc:creator>
  <dc:description/>
  <dc:language>en-US</dc:language>
  <cp:lastModifiedBy>admin</cp:lastModifiedBy>
  <cp:lastPrinted>2019-08-28T09:07:31Z</cp:lastPrinted>
  <dcterms:modified xsi:type="dcterms:W3CDTF">2024-09-05T09:19:49Z</dcterms:modified>
  <cp:revision>222</cp:revision>
  <dc:subject/>
  <dc:title>Proba E - d) Socio-umane, Bacalaureat 2010</dc:title>
</cp:coreProperties>
</file>